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AB62-52FB-4E09-8D8D-52F3AC08F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52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96840"/>
            <a:ext cx="8839440" cy="59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hyperlink" Target="http://www.picsearch.com/info.cgi?q=crayons&amp;id=RDvxUqgc7aGSqdH6QKnBEruhlmQgJKDSn2YZIxz4NW0&amp;start=61&amp;opt=%26cols%3D4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picsearch.com/info.cgi?q=markers&amp;id=GyVUYx5AEGPBnO4OSjy6ixaEzsnrSiNLEe5ZNt3t1UQ&amp;start=41&amp;opt=%26cols%3D4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www.picsearch.com/info.cgi?q=kids%20scissors&amp;id=JzpcyTHrfJe9GoNOvy-Bqd88TzT-n3gVGChCVuEcKdc&amp;start=81&amp;opt=%26cols%3D4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www.picsearch.com/info.cgi?q=glue&amp;id=YBoqdx_1puvvum9fykho0lVVye2vazkGMLHaK_zmYYY&amp;start=1&amp;opt=%26cols%3D4" TargetMode="External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icsearch.com/info.cgi?q=glue&amp;id=YBoqdx_1puvvum9fykho0lVVye2vazkGMLHaK_zmYYY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picsearch.com/info.cgi?q=glue&amp;id=zR4bjWUu0IFMtIaywR4AE7OrXQT_ll-upCuP4dk7AG4&amp;start=21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www.picsearch.com/info.cgi?q=glue&amp;id=KfsTPv8vQGnnk1QWEjuUsp4j2GaUph2IsGKuQ8nKGiU&amp;start=41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icsearch.com/info.cgi?q=crayons&amp;id=p1gCNq5HeX7STpn3mjO75xRyf8GqO6TOTahx2406d2I&amp;start=61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picsearch.com/info.cgi?q=single%20crayons&amp;id=AqmLm41lUqOvmHay4fj_2YI8usY5om3N7flD4HuSjkE&amp;start=81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www.picsearch.com/info.cgi?q=single%20crayons&amp;id=AqmLm41lUqOvmHay4fj_2YI8usY5om3N7flD4HuSjkE&amp;start=81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www.picsearch.com/info.cgi?q=single%20crayons&amp;id=AqmLm41lUqOvmHay4fj_2YI8usY5om3N7flD4HuSjkE&amp;start=81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http://www.picsearch.com/info.cgi?q=pictures%20colored%20with%20crayons&amp;id=g9AR_t_0rGw18OkZLN5nO8rrPjR_asAij2DkNQoFxSE&amp;start=61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www.picsearch.com/info.cgi?q=coloring%20book%20pictures&amp;id=3LZJbJ9rVYxIUCDnLAMs6c_6XfyFiTqdmA9Lo-JRDLw&amp;start=21" TargetMode="External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icsearch.com/info.cgi?q=kids%20scissors&amp;id=94waG_cysFJGrq2_xNdpvnuOjBqr3-c_A4BbeE3W_yM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picsearch.com/info.cgi?q=kids%20scissors&amp;id=s7s1Bc3YHv3_2Vw-vRh2lv9O3PxNAuWLnUG6lJkXcQs&amp;start=21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picsearch.com/info.cgi?q=kids%20scissors&amp;id=SAfCDbXxHDgpf7Fbd8VuaQlnuptBuVZ2xEGYIe9JTP8&amp;start=21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picsearch.com/info.cgi?q=kids%20scissors&amp;id=zn38esYnkuV_YQH40wZhzh7GIQ0USzf6DIjBOboggzg&amp;start=61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www.picsearch.com/info.cgi?q=kids%20scissors&amp;id=JzpcyTHrfJe9GoNOvy-Bqd88TzT-n3gVGChCVuEcKdc&amp;start=81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icsearch.com/info.cgi?q=coloring%20markers&amp;id=Ta3xepZR3q9bRsaAXbxF6XLgbqnSI1PWbJlKOr8YKns&amp;opt=%26cols%3D4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picsearch.com/info.cgi?q=coloring%20markers&amp;id=I5rL470_f3uzPU2A_3W-HMNcdbRHGzFSFQ1iA_iptz8&amp;start=181&amp;opt=%26cols%3D4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picsearch.com/info.cgi?q=coloring%20markers&amp;id=wcSXkSIu_lW3NqNEzaTfQk3sFHEdGo6UySKjcL2n2YU&amp;start=1&amp;opt=%26cols%3D4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www.picsearch.com/info.cgi?q=coloring%20markers&amp;id=PPriEwBN6IsmQOnh8AM74SC7AqoGloxT4UCMwoBIQuk&amp;start=61&amp;opt=%26cols%3D4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picsearch.com/info.cgi?q=coloring%20markers&amp;id=RH0HIrq9-Db6DW_XzRGLYl9vPvgrsulKbpoihvNJc9E&amp;start=21&amp;opt=%26cols%3D4" TargetMode="External"/><Relationship Id="rId10" Type="http://schemas.openxmlformats.org/officeDocument/2006/relationships/image" Target="../media/image23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gif"/><Relationship Id="rId3" Type="http://schemas.openxmlformats.org/officeDocument/2006/relationships/hyperlink" Target="http://www.picsearch.com/info.cgi?q=pencils&amp;id=4P74emAiFSxggDxoD_NDd4jrGaY1s3BHfm5Dcnv0y8I&amp;start=21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www.picsearch.com/info.cgi?q=kindergarten%20pencils&amp;id=eK9JZw-qSi9mZ0xAr8Zn1CX_3r2yA4KSohaai_KxpcM&amp;start=41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68580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133720" cy="2667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057400" y="1371600"/>
            <a:ext cx="4838760" cy="961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chool Tool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1" name="" descr="Click to view image detai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609480"/>
            <a:ext cx="121932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Click to view image detail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7920" y="3657600"/>
            <a:ext cx="119988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Click to view image detail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457200"/>
            <a:ext cx="75708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Click to view image detail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362320" y="205740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Click to view image details"/>
          <p:cNvPicPr/>
          <p:nvPr/>
        </p:nvPicPr>
        <p:blipFill>
          <a:blip r:embed="rId11"/>
          <a:stretch/>
        </p:blipFill>
        <p:spPr>
          <a:xfrm>
            <a:off x="6095880" y="2209680"/>
            <a:ext cx="15112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76520" y="1219320"/>
            <a:ext cx="5867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ue in the classro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queeze, squeeze, squeez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Click to view image detai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32767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Click to view image detail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53080" y="37339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Click to view image detail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371600" y="2666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76520" y="1219320"/>
            <a:ext cx="586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ayons in the classro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col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color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99cc"/>
                </a:solidFill>
                <a:latin typeface="Arial"/>
              </a:rPr>
              <a:t>col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Click to view image detai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0" y="2743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Click to view image detail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81080" y="762120"/>
            <a:ext cx="1219320" cy="247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Click to view image detail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86200" y="762120"/>
            <a:ext cx="1219320" cy="247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Click to view image detail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1320" y="762120"/>
            <a:ext cx="1218960" cy="247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Click to view image detail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638680" y="3657600"/>
            <a:ext cx="1219320" cy="8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Click to view image detail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648320" y="2743200"/>
            <a:ext cx="1218960" cy="8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ssors in the classro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cut, cut, cu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Click to view image detai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8954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Click to view image detai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838080"/>
            <a:ext cx="1219320" cy="800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Click to view image detail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914400"/>
            <a:ext cx="1218960" cy="561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Click to view image detail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72200" y="3886200"/>
            <a:ext cx="121932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Click to view image detail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2200" y="457200"/>
            <a:ext cx="100980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rs in the classro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draw, draw, dra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Click to view image detai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609480"/>
            <a:ext cx="1219320" cy="819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Click to view image detai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533520"/>
            <a:ext cx="121932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Click to view image detail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Click to view image detail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71600" y="2438280"/>
            <a:ext cx="981000" cy="1219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Click to view image detail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358128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76520" y="1219320"/>
            <a:ext cx="586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ncils in the classro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write, write, wri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2971800" cy="2378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Click to view image detai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19051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Click to view image detail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380880"/>
            <a:ext cx="1071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5:44:59Z</dcterms:created>
  <dc:creator>davisd</dc:creator>
  <dc:description/>
  <dc:language>en-US</dc:language>
  <cp:lastModifiedBy>harterp</cp:lastModifiedBy>
  <dcterms:modified xsi:type="dcterms:W3CDTF">2008-08-07T16:11:34Z</dcterms:modified>
  <cp:revision>44</cp:revision>
  <dc:subject/>
  <dc:title>Slide 1</dc:title>
</cp:coreProperties>
</file>